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525-A38A-4590-BFA7-675ADB8C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EF0-600D-4337-A5CF-7770D57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4E1-560E-4A99-BFA4-6C6BDD9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C09-7FF7-4347-BE13-354D390E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E1B-B352-466D-A662-1B6A0944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9F3-8B6F-495A-AEEF-77E2AAD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A99-45AC-41E2-AA3B-390219B3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F63-800F-4DF6-BDD6-E93B99B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646-5ACD-45BA-92AF-02A56699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6B2-9200-4C7D-9798-D7EC709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3E0-6C76-466A-BC91-4A751903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A44-2294-4F69-B909-27663009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CDA-B477-493F-B95A-5E0B03F4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1517760" y="378000"/>
            <a:ext cx="6419880" cy="160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ou have $10.00.  Which of the following would you like to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VD…$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g of chips….$1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G GULP….$1.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Lil’ Wayne CD…$9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cken Box…$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money for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sts (con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enefits (pro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his dec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bron-james"/>
          <p:cNvPicPr/>
          <p:nvPr/>
        </p:nvPicPr>
        <p:blipFill>
          <a:blip r:embed="rId1"/>
          <a:stretch/>
        </p:blipFill>
        <p:spPr>
          <a:xfrm>
            <a:off x="2819520" y="1676520"/>
            <a:ext cx="3533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lass Feedback:</a:t>
            </a:r>
            <a:br>
              <a:rPr sz="36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bron’s Decision to go to Miami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4038480" cy="4800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8320" y="1600200"/>
          <a:ext cx="4038480" cy="4800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92989"/>
                      </a:solidFill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92989"/>
                      </a:solidFill>
                    </a:lnL>
                    <a:lnR w="4320">
                      <a:solidFill>
                        <a:srgbClr val="292989"/>
                      </a:solidFill>
                    </a:lnR>
                    <a:lnT w="4320">
                      <a:solidFill>
                        <a:srgbClr val="292989"/>
                      </a:solidFill>
                    </a:lnT>
                    <a:lnB w="4320">
                      <a:solidFill>
                        <a:srgbClr val="29298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prepar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in the Graphic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pen ready 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4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car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resources (including money) are limited.  When the supply is smaller than the demand, so there is not enough to go a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only have $3.00.  My spending money i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ca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1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Opportunity C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o do one thing, costs you the opportunity to d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’Malley chose to spend money on education rather than trash removal from the Chesapeake Bay.  The opportunity cost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457200" y="3846600"/>
            <a:ext cx="7848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ud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ing when, how, and how much of a resource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62120" y="0"/>
            <a:ext cx="357336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ori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ut things in order of impor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570640" y="0"/>
            <a:ext cx="3573360" cy="6902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57200" y="41148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the federal government’s top priority in 200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scarcity and opportunity cost influence government dec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acintosh HD:Users:Moots:Desktop:American Government 2010-2011:Unit 1:1.15 Scarcity and Opportunity Cost:Canton-Residents-Protest-Red-Line-Plans[www.savevid.com].mov" descr="/Users/Moots/Desktop/American Government 2010-2011/Unit 1/1.15 Scarcity and Opportunity Cost/Canton-Residents-Protest-Red-Line-Plans[www.savevid.com].mov"/>
          <p:cNvPicPr/>
          <p:nvPr/>
        </p:nvPicPr>
        <p:blipFill>
          <a:blip r:embed="rId1"/>
          <a:stretch/>
        </p:blipFill>
        <p:spPr>
          <a:xfrm>
            <a:off x="2365200" y="2057400"/>
            <a:ext cx="5712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bron’s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waitingfornextyear.com/wp-content/uploads/2010/07/the-Decision-LeBron-James-ESPN.png"/>
          <p:cNvPicPr/>
          <p:nvPr/>
        </p:nvPicPr>
        <p:blipFill>
          <a:blip r:embed="rId1"/>
          <a:stretch/>
        </p:blipFill>
        <p:spPr>
          <a:xfrm>
            <a:off x="609480" y="1981080"/>
            <a:ext cx="7967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cision 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acintosh HD:Users:Moots:Desktop:American Government 2010-2011:Unit 1:1.15 Scarcity and Opportunity Cost:LeBron-James-Makes-His-Decision--Miami[www.savevid.com].mov" descr="/Users/Moots/Desktop/American Government 2010-2011/Unit 1/1.15 Scarcity and Opportunity Cost/LeBron-James-Makes-His-Decision--Miami[www.savevid.com].mov"/>
          <p:cNvPicPr/>
          <p:nvPr/>
        </p:nvPicPr>
        <p:blipFill>
          <a:blip r:embed="rId1"/>
          <a:stretch/>
        </p:blipFill>
        <p:spPr>
          <a:xfrm>
            <a:off x="1066680" y="1246320"/>
            <a:ext cx="685800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26:21Z</dcterms:created>
  <dc:creator>SSullivan</dc:creator>
  <dc:description/>
  <dc:language>en-US</dc:language>
  <cp:lastModifiedBy>Molly Zeins</cp:lastModifiedBy>
  <dcterms:modified xsi:type="dcterms:W3CDTF">2010-10-18T21:09:41Z</dcterms:modified>
  <cp:revision>4</cp:revision>
  <dc:subject/>
  <dc:title>Sullivan’s Café </dc:title>
</cp:coreProperties>
</file>